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A57-EBF6-45B1-86ED-77A1960C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37C-67EC-43BB-97E6-78B141B2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5DA-7F1C-4A0C-AF02-D4931FE0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568-6874-4C87-B4C6-E0B64CCD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F026-FEF7-491A-9150-8B21885A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E693-558A-43BA-9EE0-10BDDB6B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38D2-D1D6-483D-B090-D698534E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5227-547C-4072-A0EE-39BF9780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AB6B-248C-441B-A946-66E3F67F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6533-CABF-447D-8752-A385CF44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9CDD-8695-47BF-9E13-D2139D53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8B2-D47D-414E-B5CA-09DCEFBB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6C4E-B1DA-406E-89BF-1F9FA69D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6AA8-F034-4532-B25C-C97E4B37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D382-3224-494E-A1A9-AFE34202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0DD2-0845-47BB-B4B1-CFAD1B5D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A3FA-91E0-4EED-AB09-20BA675E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8B8-5A30-48A0-8318-03FACFCA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B46-FBF8-4E69-9A18-603542AD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354-DCF1-4104-A4DF-0F76CED3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406-8514-41EC-A7BE-18202F40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D86-9A68-4D2A-8F4D-0BFD02F6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555-0DD5-44CA-B1A7-78C5BB43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273-4912-4AFF-824F-0C935196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3176-37AD-448B-9D36-9ECF9FC796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4413-C512-4EE3-BE2C-AEFACA96BA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873080"/>
            <a:ext cx="807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ill There Was No Remedy”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ivided Kingdom – Part 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7,  Lesson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57-1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Kings 23:34 – 24:6;  Dan.1:1-7; Jer. 25; 35; 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057400" y="457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Invasion: The Beginning of the Cap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666880" y="464796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ile Judah Is Under Necho of Egyp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buchadnezzar of Babylon also imposed three years of tribute from Judah – 2 Kings 23:34 – 24:1,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mean, Moabite, Ammonite Raiders also Harass the Judeans – 24:2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hoiakim died – 24:5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hoiachin became the next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bylon Gains Contr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before Jehoiakim d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k him with bronze shackles back to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gyptians are chased back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ssels were taken from Jerusalem to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iel and his friends are taken to Babylon – Dan.1: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0" y="3049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Spread of the Babylon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76520" y="4572000"/>
            <a:ext cx="41148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eremiah Predicts The Captiv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emiah 25:1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arnings were unh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0 years are assigned in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Babylon will be punished and repaid for their evil d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des would be God’s instrument (51:11) for punishing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 of the Rechabi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. 35:1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followed the instructions of their father, Jehonad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Judah had not given God such respect and loy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Jehoiakim Burns the Scroll of Jeremiah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. 36:1-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wanted Judah to hear and repent -3,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hoiakim cut the scroll and threw it into the fire as it was being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second scroll Jehoiakim was told that he would have none to sit on the throne of David (36: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9:25:27Z</dcterms:created>
  <dc:creator>Terry W. Benton</dc:creator>
  <dc:description/>
  <dc:language>en-US</dc:language>
  <cp:lastModifiedBy>Frank D Vines</cp:lastModifiedBy>
  <dcterms:modified xsi:type="dcterms:W3CDTF">2006-03-26T19:57:35Z</dcterms:modified>
  <cp:revision>3</cp:revision>
  <dc:subject/>
  <dc:title>Till There Was No Remedy Divided Kingdom –Part 2</dc:title>
</cp:coreProperties>
</file>